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2CD-BD14-4B34-83FA-E3EF42AE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C63-DD74-4258-BA86-4CA4BF5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29B57-A38F-4753-BD76-6362DEDB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02955-716B-406C-A28D-B3BB9164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BC1EC-1D67-4647-9813-6C6DEC27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62241-B15B-4C8E-BAF3-0B7EDD5C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5B7FC-A0F1-41E9-AAB3-7C69E94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41EFD-3A81-4AA3-ABDC-2797EB56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0DC58-284D-40E5-BDC2-A6852F75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9AB2C-B1B6-44CA-8B0F-6C67DB3A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7B40B-9830-4C0F-8DC9-4B27BE2B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AE630-EFB5-4D6C-929F-5F971379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876-E4AE-4AA7-B66B-DB17803C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09588-901E-4C7D-969B-086D46F3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FD014-1717-44D2-8FFA-FAA003B1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EA361-195C-4A14-9667-5954ED16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EC12E-34E7-42BA-9336-0254B34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26D92-3FA3-4A53-8A4B-D1E13D48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32C1A-6A30-4CB7-8CAF-55890558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021B0-1933-42BB-AFE0-460275B6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4B891-2B6D-4283-8DC9-05F1A4B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3E2B3-ADA7-43D7-8B2A-E36DEDC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0A3A6-EE3A-4451-BBA6-CE6D3D9A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AAC-286C-4FB7-889D-766B4F4A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D827B-DEAA-44AC-9519-4CE2D5A8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AC8BD-4DD4-4686-AC83-CA1B9B13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DBE24-972D-41F9-B767-4DC6C9B9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20D29-2FF2-4045-982D-07541C79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0BCB8-5FBA-44A9-BDA9-24B16E2D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D50B5-C933-4575-8DE5-E8DA885E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FB307-645E-4979-8BDE-E4F55146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214D6-700B-47C0-A03F-509DCEA2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9C5DB-20D7-40D4-9115-A844647F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04262-F6CE-4340-B150-3BB46041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5678-DBF9-4A45-98C0-3C14F204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16F9D-2F33-4119-95BA-9A0B3011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50B05-3EA4-4368-8274-F4E32654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1F03F-49CD-4F02-82A1-18A763DE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E9F26-0CFB-4149-BB08-F610F81A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E15F3-D81C-4ACC-8AAD-40BFFF63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37D5D-FC2E-4A16-B0FB-DBADE3EE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C7930-D9FB-46E9-BC53-06C6FD8D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E33C2-3C65-497A-9ACE-8376926D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49690-DB30-4D03-ADFC-B8847FF4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597FF-9041-4319-860E-2885310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5E16-8F99-4B6C-A912-3C40E016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BEA3D-BC4E-45F5-9F00-DE7E7EE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2A8FD-21CE-4858-B648-37513AB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25FB8-115C-4964-9A11-B268BAC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9C17F-C6AD-4D35-9B6B-4D6A74CD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EE4BB-41F2-4F3B-871C-9492EEED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CA9FC-6035-4E42-809F-47EA0E61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327AD-0311-481A-8C75-9A96A339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1C248-0211-432F-8B6A-AEB5DC8D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9760A-F88D-428B-91A9-6B92591E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69234-BA98-43BC-A289-1BEF395E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C674-8202-4973-B9C7-95FBD334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783C5-58D0-4B08-8411-88F4AA8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A946F-8A10-4465-B95F-93A8B6FA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FCC47-0235-44C8-AC93-11820B9A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C89F4-02C2-4FFB-88CA-70CE01F9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4DDBD-820D-43FC-9AC9-0588BF4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08EAF-95B9-49AA-9309-2BEA026B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2348B-886B-4383-81B6-0F523C23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DB1C0-9AB0-4AED-9BE9-DC6FBDDB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A35FF-39EF-4292-909F-A73FCF31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8E12C-2E98-4CAE-82A3-057D736C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CB3F-BEB7-4C77-91FD-D4DC6997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BB851-4C69-4514-AA3B-DEB69AF9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FB58E-4802-452A-B5B3-53C6210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81303-9CB9-4E23-B7F3-2C644C16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AA102-0979-4FEE-A9C7-FEB2448B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ED690-868D-4428-B1F1-2B5B5F30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9E531-61DA-4F4B-B448-D56C673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EF7BD-99F8-4955-AC8C-9E839F9C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0B8C9-DF7D-4950-A157-FE608FBD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34C20-E929-445C-9993-392AC049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454EB-1AFC-4CC0-A4BC-EF8BAD56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A480-F6EE-40BC-9225-4E602707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96190-D474-45F3-ABDA-E95DABB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122A9-A271-468C-A953-39215152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3809D-B642-498F-99FE-1FC0CD0C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B288A-D2CC-42AA-BD5E-212599AB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83907-2BB7-4C93-9A11-A05AA54F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BAD25-3D81-4400-9E80-5335B5D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C818D-ED90-41ED-9C62-46E5088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61384-AF89-49E9-932D-855C786B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2AD10-FE3A-493D-8B59-71F1CFAC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8C636-74FD-4041-87BB-A4D29483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6793-A17F-49E7-876B-06A2FFCD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A01AE-163D-462E-8F98-6DE6B645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12407-D386-49FE-A73B-DB77D648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EA89C-FAEB-4792-8C35-E651FDCE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9FEA4-7499-4F84-8DDA-7BE7C36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932A7-A046-4B00-BF10-1699A6AE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D22BE-09DC-4096-90D8-244A1A8B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517AA-F8C4-4820-8CC9-FB90095A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3EDDC-F4F0-4AEC-9FA2-0C8E4C45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66944-A3C3-46D8-9C98-D696F91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BD052-0AC6-4B41-80C8-A2D34A38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835F-58AB-4040-8B45-AF59CC56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48047-7CDF-42FA-AC9A-6531D986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0B9E1-8E7E-451D-89A3-9056166E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6133B-871C-4567-B4A7-A4C673CE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C97D5-2A39-4A0D-87F7-5760AF14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72565-9769-478D-A383-1434B92E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2F395-60EF-4BC9-8273-AD1EBD28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DD50D-3C5A-4619-875C-8FC6A05B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6DA0C3-48F3-4340-8BB9-ACF382C7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73E77-666B-436A-ADF3-01811A6F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415A9-180C-4F16-A8D5-F8B966A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779-E95E-4453-9F66-B751720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1C6F-9576-43F4-A613-89CDFCF5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54E59-47D8-47C6-926E-AD99DA5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FF76C-6EBB-4C8A-B374-37163B50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7CD15-2192-4D45-BDC8-98BF9CF6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5538D-97A4-4AA5-9BB0-49341D3A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419AC2-BCC7-4078-A22B-FCEED48E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890C4-4C16-44DA-BA72-6AA0D674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63560-C979-423D-A66B-FD21714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1D9FA8-9509-445F-B04A-F62F01E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14BE4A-06D4-47A3-820C-EB449FF5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61AA7-CB70-493F-B9BC-C8698AA7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3136-6F68-42EF-89C3-3D7319F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AF729-5985-44BB-8D71-04BD887B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D52C9-DA0B-471D-9B96-45355B5D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C1DD1-792F-4677-88C2-25957C79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99D03-7ECD-4B2F-A0B8-3CF5FC33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BA909-1753-4A17-AEA1-9D1A1E8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739E0-BF49-4706-AC33-184CC28F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242D2-E15F-4F15-BFEB-F894A81E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F92DA-94E5-439D-89A4-E278BD56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3F442-B509-4AE2-AEB0-E173E817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A31E5-3DF1-47B1-8CF1-7609E446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2D43-BC8D-43FC-A2C4-0B4D3588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FE8FA-7A14-40AF-8F63-F28EC2DA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D03FD-49A8-40E2-9BD9-2058629A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87A79-DB13-4667-87AF-4116FA5A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661F3-09A8-487E-A6EC-DBD92F4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031D7-4CCF-4502-813E-DC7BC93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654AB-C39E-4422-BB82-BE8C4FBE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4C643-2F76-4EE7-AECF-23D3C71F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0D85C-30D4-4EA6-9EE0-67B44722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7C121-29ED-4BB0-91DC-C663ED7B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D0071-AE09-466C-9D8D-7F9D59CB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79F-3537-4387-9474-3A511150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A11AD4-7245-4850-AB0C-A6FAE169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2A98D-1894-46F8-8D3A-491220C6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5284BD-957F-41A1-89E8-92A732E2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D6C4F2-F78A-4C8B-9D1D-7EAADCD9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16100B-8FC1-4B02-A512-07D2E588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93330-A3C4-4834-8344-16D5F26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B8AC9-28EE-4F16-974A-4AD8CAE3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C9E8D-C013-43B8-9F7C-A2CD718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03E42-7E3C-483E-B642-31A8FC21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CD05F-536F-4E27-B15E-B28D825A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8698-04B2-450C-8F59-C38C5A63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08526-2651-4F06-9766-02417370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B723EF-0F20-49C7-AE90-78E1305E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7B5D4B-24CA-4F9D-BBD0-121BA636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F0D4D-0D75-471B-9CD2-98D57A5B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04E45C-D7CC-41CD-B757-5F1B514C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060F2B-A2EE-4174-9388-ED51EE79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6998BB-0E4C-4EB8-B648-9C05AAF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55194-5D2C-41FE-ACBB-31E73F10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54F41-CDB8-456E-BF3C-86A866A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B8DE3F-56EB-4F49-9A89-1D965F0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2F07-B20A-4AE1-AC2B-48A97BF1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C6E81-B3A0-4F47-BA66-8AF30CD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2E89D-4753-4F3A-A087-DF7C2494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42A35-6049-482C-A916-3185C468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41E976-A8D6-4463-A21B-3FE60862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FC530F-44AC-47EF-AFBA-D63F5E24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3A4A93-5918-48CB-9762-7B900865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E99477-D0AB-4184-BB21-108D2E91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2F29B3-F30D-4CCD-A222-54494EDA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A538C0-8765-4D51-87A6-743DC653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52A22E-9329-459E-BB41-0715397C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BC3D-C389-4702-95CA-B924085A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D693E5-C43E-4786-88CE-BA576808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E59124-5719-4570-82E3-9C68DA8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3A4948-6A7E-49BE-8D56-227C1C0C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F0BB9-8A66-48B8-B652-4DEC5E73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20AB00-20E0-42D8-81BC-56216946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231C02-2F80-4BDD-B6B2-7488AEFA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6C359B-E585-4AB8-98EA-DB5A39E7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A2003A-E033-4187-B7EE-01A84621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82C895-FD19-4E15-A302-5A1C80F8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6E67C-F63A-40C8-811E-4DDB0D17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B543-A21D-46E9-BB24-CB1458A1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1A371C-E46A-4DEC-8E0F-89826314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B770EA-A4AF-4DF9-B797-FC8F3EE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B376ED-536D-4785-BD38-5732C05C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E4599F-F804-4013-95E4-CC88D458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03AE51-EB9D-4CE1-A1E3-F6FC7508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5C9B2D-C43D-42A6-A2E3-578CD7B7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71B1BA-AE5D-49E0-8EBD-F9C84FC7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8700-5748-40FB-B5D5-D6D190BA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CB47-9F96-4DE7-8457-618C6AAF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7ED-7410-4A11-87DC-80FD850D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EA61-50A4-4DB5-8A94-2DBD50A8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6E03-4746-409E-8972-690A045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5F4A-40FB-4C35-96FF-92111D6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6E68-A6F5-4A7F-AF04-AD0246A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558F-F119-41CA-BADA-880F2D89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00B7-DCDF-4E78-85AF-1868B6CD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0D10-94F0-45C7-A98D-C821C0BC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4CBF-85E5-4665-94FD-E68D95B3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7FBD3-6336-46FA-802C-F0E01399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52C5-C471-495A-B481-0818A6C9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1D2-55B5-4366-B7FB-67A17C76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A88B-BED8-4F2F-801F-F2166B1A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8463-3505-48D8-8439-48306CC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4FBA-0F17-41A5-BF0C-2E99B257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1ABE-2572-417E-A2C6-73BB7EA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80300-7B76-4159-9EB2-036B5CF6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539B-DF94-4C05-8511-D874B36B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AC55-0EC5-4035-A42B-BD92A7C1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4533-8730-4211-B8B8-F9194609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F293-80E3-4140-8574-82C11655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4C7E-ABA4-49AF-99CB-295B4950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ABF-C5D1-4224-B479-ADE5301F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D7256-15C6-486C-876F-479E1EC1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F3480-9086-4742-AF55-538BAC3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0EA54-1AB5-4B9C-8793-2F158AE2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4CD44-318F-4A97-8C04-865D3531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8F82B-34C0-4FDC-9068-CB939A8E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ACCE0-AEAB-4335-8FC5-A2228413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F7EF5-7295-4EF4-9126-82B6FE0A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1EE45-2056-4BC6-9F06-D57A66C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99875-5E80-4E73-B5E5-446B746B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9B80-3FB9-4917-BEEA-46B56A45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889-48B4-48D5-8056-49D77E80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198C-2EAB-40AD-9D4F-099B8071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07381-1C96-4E81-85F9-B5C7CC73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32DD-0042-477C-9342-9F8156A1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212DD-4CA3-4125-8165-0D56A3A5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F9159-A93E-4729-9352-441D2C24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21852-86F9-4CF3-89A3-FAE4A0E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89210-480F-484A-8796-6B9A1C5F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E1863-0ECD-4874-9479-BD64368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81F2B-AF76-4B36-B99B-4F03E6F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EA0C-75E3-4B66-AC11-2073B4C7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232-46BF-48F2-BC0F-8BFFCBB5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CD807-CE7F-40A0-830D-4315F729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52D7D-05B0-4568-896D-E766CCA2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FA6FF-C2CE-49EA-8644-1B1D6D04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026D-3D05-4D00-A8D8-5A3D9AE0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99AAF-B08A-439E-9AC0-B9553DB3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3EB53-FD64-4ACF-9D39-39788E78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25A9-7B7F-4C1D-B00D-F1481179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0A00E-42FC-478C-AC9F-8D36EA5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42DD-A858-45D7-9305-05BD30C8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037D-7C19-4828-9399-459EF672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8D7-6A4C-4ADD-A819-0BB177E4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F83B-DAF7-45BE-B06D-73F156B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E5D7-F245-4594-817D-F08B2D0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0E8C5-BF10-491A-9467-1C04F9C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4297-4F4C-4982-A5B7-51A3C6AE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4555-C8CC-4E8A-A364-91876390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DBAD6-C776-47D5-94FB-C2B813A9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9DD22-C630-4FE4-93A2-BE67BA38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FC705-E1D9-4766-9995-86A69356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36989-8F84-49BD-9710-E9FA2F92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1A9E-9E27-44A9-BCFC-E61884EB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19D-4D70-41F9-AD79-F9AF0E28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02D73-CE79-495C-BD0A-3AF2D85C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FC29-BE0F-470F-A8E4-5C53FF7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E687E-7817-405A-BA27-03C0B656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B49DB-93BA-4CF5-814B-D46A5AF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92BA4-20E3-42E4-974D-E633F6CB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9205D-430C-484C-A0BE-A6E756E4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7B651-4415-4002-812A-802A7D90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272A1-33F5-4260-BA74-87147A54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86FA7-109E-4585-AA29-55B75FD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18892-DCEA-425C-A1F0-6D50DA80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4B10-3652-4D9D-8507-A2AA0609C0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7E78-178A-4EC9-934E-2D1217B60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698D-9F8B-44CF-A834-D496F90A8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B856-F18F-46EB-B80B-08CFAFB01B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FEC1-6340-47BC-8D81-726F853CBE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8430-5AF7-4D9E-B622-799B8E9AE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A9CC-9C22-4CB0-89A7-E923BE1DDB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5E76-4FB1-4B35-A970-45F1DCA02A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6DFE-859D-4883-9741-B0338D2CB6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26D3-F308-4A3B-B487-1CBA1A01D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2EA6-28C9-416F-9FB4-1879030BF6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39E7-F5E7-41C5-BEB2-CC72DC9600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D49-5805-48BC-A16F-22AD0D283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9D08-81A6-4197-ADCC-B63211D751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D361-406C-40D0-95F9-F362663417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0F57-DB0B-4F29-A9F7-D9D74C2273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A08E-60F1-4209-9054-B2A552C80E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8958-8FAA-4CB9-82E7-E27B5E901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0600-2050-4AA2-B727-F1698494A5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323C-CF96-419A-9B59-204CF07AED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E2EA-EB64-45A2-BDE4-97D44C9A1B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0AD0-CAAD-4042-860A-0026F632B8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3F96-919C-4959-B8C8-163BDE35B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4DF1-479A-4EED-9FFE-2FF81E3064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062C-32A1-479A-A2D6-2DF3DBA19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99A2-82C8-4E97-9315-13A555833D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B1D9-DCDD-4D8D-A367-E3A26E03DA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12D9-CF28-4C6F-8E47-FD1BC83E81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95DF-AADD-437A-9B4B-7CCCEAB6E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2BA2-541E-4773-8D1B-834CE0B74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5CD-4DD8-429E-B726-AEAA5A53DE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2394-20A9-459E-BCD4-6A3CAE470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66AB-DDFF-4FF4-B135-2795C6DC06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7523-ED82-4CF8-A9AC-3D91B258E2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E0CE-8FF5-483E-9F93-462FFBB15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E3BB-1B92-43C9-9A0D-8D81C325F8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3BC7-81DD-4802-9B2F-E5A4BE39B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8282-0E29-4C30-B041-912B7248D4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F258-4EAA-4070-AFBA-25A6FDED1C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C70D-97B4-4747-B9B9-0D4D01792A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F002-F37B-48FC-8B54-7AE4E8E2C6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C1DC-71C8-49CC-914F-F7B0E00D90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90440" y="3089160"/>
            <a:ext cx="8763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4200" y="797040"/>
            <a:ext cx="8715600" cy="5981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58341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58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971640" y="5734080"/>
            <a:ext cx="58338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900000" y="6324480"/>
            <a:ext cx="583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122480" y="701640"/>
            <a:ext cx="7221600" cy="60469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619280" y="432108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547640" y="4797360"/>
            <a:ext cx="43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1547640" y="5229360"/>
            <a:ext cx="43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1476360" y="580536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1476360" y="6310440"/>
            <a:ext cx="432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414360" y="76320"/>
            <a:ext cx="8520120" cy="6705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1042920" y="522936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1042920" y="574848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6"/>
          <a:stretch/>
        </p:blipFill>
        <p:spPr>
          <a:xfrm>
            <a:off x="1042920" y="635328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81080" y="876240"/>
            <a:ext cx="8781840" cy="5105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332000" y="491184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403280" y="5516640"/>
            <a:ext cx="547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581040" y="1528920"/>
            <a:ext cx="7981920" cy="3800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042920" y="28368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70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971640" y="4495680"/>
            <a:ext cx="7057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33280" y="52560"/>
            <a:ext cx="8677440" cy="6752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403280" y="463716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332000" y="5172120"/>
            <a:ext cx="568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56894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332000" y="6265800"/>
            <a:ext cx="56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476280" y="1542960"/>
            <a:ext cx="8191440" cy="37720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042920" y="2722680"/>
            <a:ext cx="61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61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61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042920" y="4422600"/>
            <a:ext cx="612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3360" y="1273320"/>
            <a:ext cx="9017280" cy="189864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2" descr=""/>
          <p:cNvPicPr/>
          <p:nvPr/>
        </p:nvPicPr>
        <p:blipFill>
          <a:blip r:embed="rId2"/>
          <a:stretch/>
        </p:blipFill>
        <p:spPr>
          <a:xfrm>
            <a:off x="1379520" y="3760920"/>
            <a:ext cx="6896160" cy="21812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3059280" y="1700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310356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5796000" y="1773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543564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8323200" y="17445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8445600" y="227664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2916360" y="436572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0"/>
          <a:stretch/>
        </p:blipFill>
        <p:spPr>
          <a:xfrm>
            <a:off x="3059280" y="4941720"/>
            <a:ext cx="68400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1"/>
          <a:stretch/>
        </p:blipFill>
        <p:spPr>
          <a:xfrm>
            <a:off x="6012000" y="436572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2"/>
          <a:stretch/>
        </p:blipFill>
        <p:spPr>
          <a:xfrm>
            <a:off x="6357960" y="4941720"/>
            <a:ext cx="1022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3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